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FEB-80C5-466E-8492-8151CDE1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126-4AB5-4773-AF7D-F30A047F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925-6314-4D75-8DDD-1D12E77E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CF6-C085-4234-B8CF-F486F65C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D6D-CAF2-41CC-84F7-6F9C1085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EAC-4538-42E7-8C3C-29581AAA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B5F-8599-4DA3-B7AD-EAD15963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90E-5E29-47BD-B252-AC5C0286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451-4B2E-4E14-8685-9EC422D6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F2A-81F9-47EC-A2ED-27EB15EA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37E-9BB0-45AE-AEA5-DCE70CAB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F72-C213-46C2-ABA1-B9F67826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25840" cy="6743520"/>
            <a:chOff x="0" y="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8925840" cy="6743520"/>
              <a:chOff x="0" y="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15120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07916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17204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492920"/>
              <a:ext cx="7742520" cy="4800600"/>
              <a:chOff x="1149120" y="149292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492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215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19497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1787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073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355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8645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0931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213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5503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7789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071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361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4647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6929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219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1505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3787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077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363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06456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293520"/>
                <a:ext cx="774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1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2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3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5B73-DE54-46C7-8CB0-F931C0591BF7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Arial"/>
              </a:rPr>
              <a:t>MLA </a:t>
            </a:r>
            <a:r>
              <a:rPr b="1" lang="en-US" sz="4400" spc="-1" strike="noStrike">
                <a:solidFill>
                  <a:srgbClr val="221304"/>
                </a:solidFill>
                <a:latin typeface="Arial Black"/>
              </a:rPr>
              <a:t>Document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3" name="Picture 3" descr="Documentation"/>
          <p:cNvPicPr/>
          <p:nvPr/>
        </p:nvPicPr>
        <p:blipFill>
          <a:blip r:embed="rId1"/>
          <a:stretch/>
        </p:blipFill>
        <p:spPr>
          <a:xfrm>
            <a:off x="5410080" y="3276720"/>
            <a:ext cx="3048120" cy="2943000"/>
          </a:xfrm>
          <a:prstGeom prst="rect">
            <a:avLst/>
          </a:prstGeom>
          <a:ln w="0">
            <a:noFill/>
          </a:ln>
        </p:spPr>
      </p:pic>
      <p:pic>
        <p:nvPicPr>
          <p:cNvPr id="11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 by a single auth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of publication: Name of Publisher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143000" y="411480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John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 Cars at Da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incinnati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per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825"/>
                            </p:stCondLst>
                            <p:childTnLst>
                              <p:par>
                                <p:cTn id="3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150"/>
                            </p:stCondLst>
                            <p:childTnLst>
                              <p:par>
                                <p:cTn id="3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3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 by two or mor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uthor’s fir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ast name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lace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: Name of Publisher,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066680" y="426096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John, and Mary Johnson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icorns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ple Pal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incinnati: Harper, 200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r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275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6575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or more books by same auth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of publication: Name of Publish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066680" y="3429000"/>
            <a:ext cx="7620120" cy="25311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John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 Cars in the Eve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ncinnati: Harper, 200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y Black Cars Hide at Da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incinna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per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4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300"/>
                            </p:stCondLst>
                            <p:childTnLst>
                              <p:par>
                                <p:cTn id="4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 by an edi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's last name, first name, and abbreviation for editor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lace of publication: Name of publisher,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066680" y="426096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pate, Philip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erican Indians on the Wi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hicago: Doubleday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4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rticle in a magaz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. “Title of article.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gazine 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complete date: p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of the article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066680" y="426096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hta, Poual. “Pigs Fly First Class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eek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4 Oct. 1999: 14-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r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5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ic pub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 (if known). “Titl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ocument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 about electron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b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ate site was last updated. D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ccess. &lt;URL&gt;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066680" y="426096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sen, Ron. “Computers Can Fly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ctronic 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. 5 Aug. 2004. &lt;www.pigsfeet.org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5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ic publication with no auth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of the document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 about electronic pub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ate of site update. Date of access. &lt;URL&gt;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66680" y="426096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Elephants Sang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imalsOn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200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Aug. 2004. &lt;www.Animalsonline.com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5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rticle in a jour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’s last name, first name. “Title of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le.” Publication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066680" y="411480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mpeter, Jane. “Widgeons Are Loose in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l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ldren’s Dig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hiladelphia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825"/>
                            </p:stCondLst>
                            <p:childTnLst>
                              <p:par>
                                <p:cTn id="6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6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th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’s last name, first name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143000" y="411480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John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 Cars at Da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Cincinnati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per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sh dir="r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625"/>
                            </p:stCondLst>
                            <p:childTnLst>
                              <p:par>
                                <p:cTn id="6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725"/>
                            </p:stCondLst>
                            <p:childTnLst>
                              <p:par>
                                <p:cTn id="6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ork in an anth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, title, and (if relevant) translator of the par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book being cited, title of anthology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/translator/compiler, public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, page numbers of the cited pie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419112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th, Isabel. “Frog’s Friend.” Trans. Andre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hall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ldren’s Myth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d. T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tleberry. Pittsburg, 1979. 41-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Research Paper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typeface (Times New Rom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type size (12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1/2-by-11-inch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inch margins (top, bottom, si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-spa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nt first word of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onymous arti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Omit any initial, 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, o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group 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of article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b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plete dat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of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3925800"/>
            <a:ext cx="7620120" cy="16779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yond the Power Rangers: Forecasting Ne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oes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ligh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5 Mar. 2001: 13-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vision or radio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of episode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 of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itle of seri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of the network. Call letters, and city (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). Complete broadcast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96252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gs In Space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ppets L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Jim Henson’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ppets. Universal. NBS, New York. 3 Ma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7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7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Documenting 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e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er’s last name, first name. “Title of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(or appropriate descriptors.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nsoring organization (if applicable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.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4260960"/>
            <a:ext cx="7620120" cy="2104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gel, Suttud. “Shock-Proofing Your Semester.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A Student Senate. Rose Grounds, Ne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hi. 29 Dec. 197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0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7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7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Works Cit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aldi, Joseph, 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LA Handbook for Writers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earch Pap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New York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L Online Writing Lab. 28 Nov. 2005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owl.english.purdue.edu/handouts/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earch/r_mla.html#Works-Ci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th, Becca. “Citing Sources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ue Valley We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 Schoo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8 Nov. 2005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bv.229.k12.ks.us/bvw_lmc/citing.ht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source Center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ong Colle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. http://www.yorku.ca/stong/production/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push dir="r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7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925"/>
                            </p:stCondLst>
                            <p:childTnLst>
                              <p:par>
                                <p:cTn id="8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8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Research Paper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 Left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 pag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n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’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nder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625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375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25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Research Paper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Numbers—in the h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-hand corner of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half inch from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 with right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last name and pag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cutiv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hyphen, period, “page” s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push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25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975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75"/>
                            </p:stCondLst>
                            <p:childTnLst>
                              <p:par>
                                <p:cTn id="2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4674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2514600" y="304920"/>
            <a:ext cx="4929120" cy="6172200"/>
            <a:chOff x="2514600" y="304920"/>
            <a:chExt cx="4929120" cy="6172200"/>
          </a:xfrm>
        </p:grpSpPr>
        <p:pic>
          <p:nvPicPr>
            <p:cNvPr id="123" name="Picture 4" descr="mlaformat"/>
            <p:cNvPicPr/>
            <p:nvPr/>
          </p:nvPicPr>
          <p:blipFill>
            <a:blip r:embed="rId1"/>
            <a:stretch/>
          </p:blipFill>
          <p:spPr>
            <a:xfrm>
              <a:off x="2514600" y="304920"/>
              <a:ext cx="492912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5"/>
            <p:cNvSpPr/>
            <p:nvPr/>
          </p:nvSpPr>
          <p:spPr>
            <a:xfrm>
              <a:off x="3886200" y="990720"/>
              <a:ext cx="2819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Parenthetical Cit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Bunyan is an American folklore hero whose blue ox was a menace (Stout 6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ut, Avery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erican Folkl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New York: Collins, 196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sh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775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625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ting1"/>
          <p:cNvPicPr/>
          <p:nvPr/>
        </p:nvPicPr>
        <p:blipFill>
          <a:blip r:embed="rId1"/>
          <a:stretch/>
        </p:blipFill>
        <p:spPr>
          <a:xfrm>
            <a:off x="1295280" y="228600"/>
            <a:ext cx="6782040" cy="6026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685800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Works Cit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page(s) of the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the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inch from top of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-space throug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 entry flush with left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ging indent if entry more than on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betical li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7000"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3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165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435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1143000" y="304920"/>
            <a:ext cx="7086600" cy="6019560"/>
            <a:chOff x="1143000" y="304920"/>
            <a:chExt cx="7086600" cy="6019560"/>
          </a:xfrm>
        </p:grpSpPr>
        <p:pic>
          <p:nvPicPr>
            <p:cNvPr id="132" name="Picture 3" descr="citing"/>
            <p:cNvPicPr/>
            <p:nvPr/>
          </p:nvPicPr>
          <p:blipFill>
            <a:blip r:embed="rId1"/>
            <a:stretch/>
          </p:blipFill>
          <p:spPr>
            <a:xfrm>
              <a:off x="1143000" y="304920"/>
              <a:ext cx="7086600" cy="60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4"/>
            <p:cNvSpPr/>
            <p:nvPr/>
          </p:nvSpPr>
          <p:spPr>
            <a:xfrm>
              <a:off x="2438280" y="5562720"/>
              <a:ext cx="33530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5"/>
          <p:cNvSpPr/>
          <p:nvPr/>
        </p:nvSpPr>
        <p:spPr>
          <a:xfrm>
            <a:off x="6858000" y="5943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2:27:11Z</dcterms:created>
  <dc:creator>Love E. Beatty</dc:creator>
  <dc:description/>
  <dc:language>en-US</dc:language>
  <cp:lastModifiedBy>Suzanne Conti</cp:lastModifiedBy>
  <dcterms:modified xsi:type="dcterms:W3CDTF">2011-09-09T16:49:31Z</dcterms:modified>
  <cp:revision>6</cp:revision>
  <dc:subject/>
  <dc:title>MLA Documentation, 2005</dc:title>
</cp:coreProperties>
</file>